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0C6-346A-4B4E-86CD-9711CD71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4D9-4FAC-4DD6-A302-0A2DE672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034-AE1E-454D-9BD4-A492C916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0AF-085D-4DE0-948C-2839FB29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788-1204-4235-BDCC-8AE96C4A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38DC-088D-4C04-A6FC-8C473F1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3ADF-7FB9-44F0-A8CF-54892F18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BE0-7CC8-46E0-BDC2-67D08270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10A7-45A0-423A-BC5A-967EF08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6B86-BBF8-4C14-9D96-99AF4E93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8CBF-DF7C-4A5D-9BF8-C32FBEB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9A8-506D-423A-90AC-2F9CC0F6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A52B-4AA7-4DCA-BFBA-5A941E6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EDA8-D47D-4C46-9E56-DE8C662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5765-7990-4B1E-84EF-4AF3B1FC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64F7-74A5-4F22-A2A8-E0CA7934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746E-D290-4F89-B33E-34542600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8AD-A13D-47B8-BFCF-B052A2A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ED8-DA4B-44F1-8C75-40EA171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9B7-ABB6-4537-BB40-635FB4C8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72A-34C7-405A-95BC-35AB84A7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C8C-EC4D-406C-BE61-77C08B5F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95B-DBDB-40FF-AEBE-B01DE22B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A22-A26C-4585-AEAE-4E3A7B1D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3EB8-4334-4FC2-AC15-BF8EA97B732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6B2-B640-497E-BB49-992B1880A08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d6"/>
                </a:solidFill>
                <a:latin typeface="Arial Black"/>
              </a:rPr>
              <a:t>Patrick kle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d6"/>
                </a:solidFill>
                <a:latin typeface="Arial Black"/>
              </a:rPr>
              <a:t>A peri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45720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is vacaiones de mico!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333960" cy="22194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590920" y="685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i Hote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819520" cy="2121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581280" y="1752480"/>
            <a:ext cx="4953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Dear,m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el hotel que me voy a quedar en el es muy agradable! Tengo una habitación muy bonita y grande! Tengo un Telivision, mi propia cocina, y un baño muy grande con una ducha completa! Me gustaría que estuvieras aquí para ver esto! que le gustaría.</a:t>
            </a:r>
            <a:br>
              <a:rPr sz="1800"/>
            </a:b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  su hijo- Patrick Klein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09320" y="761760"/>
            <a:ext cx="5715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f273e"/>
                </a:solidFill>
                <a:latin typeface="Arial Black"/>
              </a:rPr>
              <a:t>lo que h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stimados, Miles</a:t>
            </a:r>
            <a:br>
              <a:rPr sz="3200"/>
            </a:b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Hoy he ido a la playa, y se fue en el agua. El agua estaba muy caliente! Yo también fui tomar el sol! Me quemé porque no uso locion bronceadora! Pero aparte de eso im pasando muy bien!</a:t>
            </a:r>
            <a:br>
              <a:rPr sz="3200"/>
            </a:b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Su amigo Patri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52280" y="2133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stimado Elioma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Engravers MT"/>
              </a:rPr>
              <a:t>Hoy he ido de compras! Me compré un sombrero mexicano! También tuve unos tacos bien cuando yo estaba fuera. que eran delicioso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57680" cy="1685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19160" cy="1879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819160" cy="2781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505320" y="685800"/>
            <a:ext cx="510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ill Sans Ultra Bold Condensed"/>
              </a:rPr>
              <a:t>Mi segundo dio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ill Sans Ultra Bold Condensed"/>
              <a:ea typeface="Gill Sans Ultra Bold Condensed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99"/>
                </a:solidFill>
                <a:latin typeface="Script MT Bold"/>
              </a:rPr>
              <a:t>De cuatro día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l tiempo hoy era lluvioso. Yo no hice nada. Me alojé en el hotel todo el día y comer una deliciosa comida! Me había servicio de habitaciones. Luego me fui por la ciudad buscando somthing que hace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276720" cy="2097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ad6"/>
                </a:solidFill>
                <a:latin typeface="Arial Black"/>
              </a:rPr>
              <a:t>El</a:t>
            </a:r>
            <a:r>
              <a:rPr b="0" lang="es-ES" sz="4400" spc="-1" strike="noStrike">
                <a:solidFill>
                  <a:srgbClr val="000ad6"/>
                </a:solidFill>
                <a:latin typeface="Arial Black"/>
              </a:rPr>
              <a:t> día 6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A: Mamá</a:t>
            </a:r>
            <a:br>
              <a:rPr sz="2800"/>
            </a:b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Hoy en día el clima fue estupendo! Conocí a un chico llamado Jeremy! que es muy cool. nos fuimos a las tiendas y se reunió con algunas chicas allí! Así que terminamos saliendo con ellos para mi último día! im gonna miss México! nos vemos pronto!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3:13Z</dcterms:created>
  <dc:creator>kleinpat</dc:creator>
  <dc:description/>
  <dc:language>en-US</dc:language>
  <cp:lastModifiedBy>kleinpat</cp:lastModifiedBy>
  <dcterms:modified xsi:type="dcterms:W3CDTF">2011-11-30T17:06:28Z</dcterms:modified>
  <cp:revision>7</cp:revision>
  <dc:subject/>
  <dc:title>Slide 1</dc:title>
</cp:coreProperties>
</file>